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7.wmf" ContentType="image/x-wmf"/>
  <Override PartName="/ppt/media/image16.png" ContentType="image/png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92904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6352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92904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831AA90-4228-498C-925C-8A39E131F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OS/390 and z/OS environment.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(WBC) will typically be outside of the fire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istributed platform environment. 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(WBC) will typically be outside of the fire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lation/Transformation Software address 8 of the 14 CIO prior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33741-53C0-426D-B0DD-FBA6284E54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C6DC7-D07C-475F-B5E8-E05A2A2C6F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CEB2F-CC15-4627-8D6D-3D3AC452EA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0C9F9-2995-4573-A952-F97EFF20D5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2856A-48E4-47CA-AE4C-BFF4CCB327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31AB3-DB99-4A65-9F3E-8BEB1D1D98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F04C5-AD7D-429B-B69E-C67D4F2BFB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83993-7D23-495E-9A33-A5E686542C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6694A-D05D-4154-B42C-63E7324D4F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F0A0A-330F-43FC-8B54-1B878D3D8E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0B37C-9B74-446B-A89C-5C7FEDCBE1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1E9FF-024B-4B3D-A388-128BD1FC4F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CFF2-4CF6-406C-BAA9-5E54014FFE8F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1880" y="208404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DI 3.2 Migration Flight Plan</a:t>
            </a:r>
            <a:br>
              <a:rPr sz="3000"/>
            </a:b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obert Downey &amp; Randy Sm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377120" y="3625920"/>
            <a:ext cx="17668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52640" y="13507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M DataInterchange 3.1 – Administration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70 Terminal/Terminal Emul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Clients w/real-time OD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lone DI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inatio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DataInterchange Administration Interface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08000" y="1324080"/>
          <a:ext cx="6848640" cy="19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324080"/>
                    <a:ext cx="684864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762120" y="3784680"/>
          <a:ext cx="7646760" cy="18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784680"/>
                    <a:ext cx="764676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52640" y="1243080"/>
            <a:ext cx="734832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 – Taking Inventory…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cations / Network 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Conn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TP/SM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d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52640" y="13507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1 – Taking Inventory…(continu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lation/Trans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or Operating Systems / Plat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translation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or Release/Versions/Processing (i.e. dev., test, prod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Transl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sions/Rele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repos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Interface Compon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ra-Systems / Application Trans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 Software /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 Integrated Business Applications – Operating Systems/Plat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 volu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Application forma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34440" y="517320"/>
            <a:ext cx="85345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ebSphere Data Interchange v3.2 for z/O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89040" y="4844880"/>
            <a:ext cx="587520" cy="9860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89040" y="4844880"/>
            <a:ext cx="587160" cy="9860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19760" y="573732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istributed Appli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311880" y="3532320"/>
            <a:ext cx="1328760" cy="504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6162840" y="4116240"/>
            <a:ext cx="677520" cy="555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6762600" y="4116240"/>
            <a:ext cx="677880" cy="5558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7362720" y="4116240"/>
            <a:ext cx="677880" cy="5558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flipH="1" flipV="1">
            <a:off x="5113080" y="3386160"/>
            <a:ext cx="1181160" cy="4017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90240" y="31701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67840" y="4719600"/>
            <a:ext cx="106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DI Cli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Single 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Multi-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Cloud"/>
          <p:cNvSpPr/>
          <p:nvPr/>
        </p:nvSpPr>
        <p:spPr>
          <a:xfrm>
            <a:off x="6627960" y="861840"/>
            <a:ext cx="1896840" cy="123696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Cloud"/>
          <p:cNvSpPr/>
          <p:nvPr/>
        </p:nvSpPr>
        <p:spPr>
          <a:xfrm>
            <a:off x="6311880" y="1417680"/>
            <a:ext cx="1725480" cy="1123920"/>
          </a:xfrm>
          <a:prstGeom prst="pie">
            <a:avLst/>
          </a:prstGeom>
          <a:solidFill>
            <a:srgbClr val="00ff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80720" y="162576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DI Serv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16600" y="936720"/>
            <a:ext cx="169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Business Exchange Service (Internet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413320" y="2511000"/>
            <a:ext cx="1724040" cy="2192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3987720" y="4484520"/>
            <a:ext cx="1652760" cy="1105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07240" y="5521320"/>
            <a:ext cx="106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DI Cli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Single 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4683000">
            <a:off x="3430800" y="4083840"/>
            <a:ext cx="11149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B2 Conn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nd-Al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15600" y="3532320"/>
            <a:ext cx="116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SO Session  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ICS Transac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98920" y="4738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313080" y="1624680"/>
            <a:ext cx="2401920" cy="2112120"/>
            <a:chOff x="3313080" y="1624680"/>
            <a:chExt cx="2401920" cy="2112120"/>
          </a:xfrm>
        </p:grpSpPr>
        <p:pic>
          <p:nvPicPr>
            <p:cNvPr id="194" name="" descr=""/>
            <p:cNvPicPr/>
            <p:nvPr/>
          </p:nvPicPr>
          <p:blipFill>
            <a:blip r:embed="rId8"/>
            <a:stretch/>
          </p:blipFill>
          <p:spPr>
            <a:xfrm>
              <a:off x="3313080" y="1636560"/>
              <a:ext cx="2401920" cy="21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rot="19723800">
              <a:off x="3466080" y="2431800"/>
              <a:ext cx="97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OS/39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9814400">
              <a:off x="4833720" y="177264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z/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39520" y="207540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32ef7"/>
                  </a:solidFill>
                  <a:latin typeface="Times New Roman"/>
                </a:rPr>
                <a:t>/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9761600">
              <a:off x="4704480" y="29934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21568200">
              <a:off x="4438800" y="2729880"/>
              <a:ext cx="583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MV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CIC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DB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9686000">
              <a:off x="3649680" y="3047040"/>
              <a:ext cx="23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1" name="Cloud"/>
          <p:cNvSpPr/>
          <p:nvPr/>
        </p:nvSpPr>
        <p:spPr>
          <a:xfrm>
            <a:off x="1063800" y="1552680"/>
            <a:ext cx="1500120" cy="977760"/>
          </a:xfrm>
          <a:prstGeom prst="pie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14520" y="2219400"/>
            <a:ext cx="973080" cy="14580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93680" y="1600200"/>
            <a:ext cx="14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S1, AS2, FT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914400" y="3532320"/>
            <a:ext cx="2473200" cy="13125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889280" y="3605040"/>
            <a:ext cx="1649160" cy="12398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9751400">
            <a:off x="1915560" y="417672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b6b3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3838680" y="3677760"/>
            <a:ext cx="374400" cy="145908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140000">
            <a:off x="5132160" y="3344400"/>
            <a:ext cx="11588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B2 Conn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nd-Al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21179400">
            <a:off x="5712480" y="2368440"/>
            <a:ext cx="90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pedite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760840" y="1955880"/>
            <a:ext cx="215640" cy="487080"/>
            <a:chOff x="2760840" y="1955880"/>
            <a:chExt cx="215640" cy="487080"/>
          </a:xfrm>
        </p:grpSpPr>
        <p:sp>
          <p:nvSpPr>
            <p:cNvPr id="211" name=""/>
            <p:cNvSpPr/>
            <p:nvPr/>
          </p:nvSpPr>
          <p:spPr>
            <a:xfrm>
              <a:off x="2760840" y="1955880"/>
              <a:ext cx="215640" cy="312480"/>
            </a:xfrm>
            <a:custGeom>
              <a:avLst/>
              <a:gdLst/>
              <a:ahLst/>
              <a:rect l="l" t="t" r="r" b="b"/>
              <a:pathLst>
                <a:path w="518" h="621">
                  <a:moveTo>
                    <a:pt x="194" y="0"/>
                  </a:moveTo>
                  <a:lnTo>
                    <a:pt x="204" y="23"/>
                  </a:lnTo>
                  <a:lnTo>
                    <a:pt x="278" y="76"/>
                  </a:lnTo>
                  <a:lnTo>
                    <a:pt x="321" y="114"/>
                  </a:lnTo>
                  <a:lnTo>
                    <a:pt x="334" y="154"/>
                  </a:lnTo>
                  <a:lnTo>
                    <a:pt x="334" y="184"/>
                  </a:lnTo>
                  <a:lnTo>
                    <a:pt x="354" y="165"/>
                  </a:lnTo>
                  <a:lnTo>
                    <a:pt x="361" y="143"/>
                  </a:lnTo>
                  <a:lnTo>
                    <a:pt x="358" y="115"/>
                  </a:lnTo>
                  <a:lnTo>
                    <a:pt x="411" y="154"/>
                  </a:lnTo>
                  <a:lnTo>
                    <a:pt x="415" y="175"/>
                  </a:lnTo>
                  <a:lnTo>
                    <a:pt x="411" y="197"/>
                  </a:lnTo>
                  <a:lnTo>
                    <a:pt x="384" y="244"/>
                  </a:lnTo>
                  <a:lnTo>
                    <a:pt x="380" y="265"/>
                  </a:lnTo>
                  <a:lnTo>
                    <a:pt x="381" y="283"/>
                  </a:lnTo>
                  <a:lnTo>
                    <a:pt x="402" y="295"/>
                  </a:lnTo>
                  <a:lnTo>
                    <a:pt x="425" y="290"/>
                  </a:lnTo>
                  <a:lnTo>
                    <a:pt x="434" y="270"/>
                  </a:lnTo>
                  <a:lnTo>
                    <a:pt x="440" y="292"/>
                  </a:lnTo>
                  <a:lnTo>
                    <a:pt x="440" y="310"/>
                  </a:lnTo>
                  <a:lnTo>
                    <a:pt x="427" y="342"/>
                  </a:lnTo>
                  <a:lnTo>
                    <a:pt x="432" y="368"/>
                  </a:lnTo>
                  <a:lnTo>
                    <a:pt x="457" y="378"/>
                  </a:lnTo>
                  <a:lnTo>
                    <a:pt x="485" y="371"/>
                  </a:lnTo>
                  <a:lnTo>
                    <a:pt x="504" y="344"/>
                  </a:lnTo>
                  <a:lnTo>
                    <a:pt x="515" y="368"/>
                  </a:lnTo>
                  <a:lnTo>
                    <a:pt x="518" y="405"/>
                  </a:lnTo>
                  <a:lnTo>
                    <a:pt x="490" y="467"/>
                  </a:lnTo>
                  <a:lnTo>
                    <a:pt x="475" y="545"/>
                  </a:lnTo>
                  <a:lnTo>
                    <a:pt x="448" y="582"/>
                  </a:lnTo>
                  <a:lnTo>
                    <a:pt x="401" y="607"/>
                  </a:lnTo>
                  <a:lnTo>
                    <a:pt x="317" y="621"/>
                  </a:lnTo>
                  <a:lnTo>
                    <a:pt x="355" y="591"/>
                  </a:lnTo>
                  <a:lnTo>
                    <a:pt x="378" y="552"/>
                  </a:lnTo>
                  <a:lnTo>
                    <a:pt x="385" y="528"/>
                  </a:lnTo>
                  <a:lnTo>
                    <a:pt x="385" y="498"/>
                  </a:lnTo>
                  <a:lnTo>
                    <a:pt x="371" y="481"/>
                  </a:lnTo>
                  <a:lnTo>
                    <a:pt x="357" y="478"/>
                  </a:lnTo>
                  <a:lnTo>
                    <a:pt x="331" y="482"/>
                  </a:lnTo>
                  <a:lnTo>
                    <a:pt x="330" y="485"/>
                  </a:lnTo>
                  <a:lnTo>
                    <a:pt x="313" y="487"/>
                  </a:lnTo>
                  <a:lnTo>
                    <a:pt x="287" y="481"/>
                  </a:lnTo>
                  <a:lnTo>
                    <a:pt x="317" y="464"/>
                  </a:lnTo>
                  <a:lnTo>
                    <a:pt x="325" y="435"/>
                  </a:lnTo>
                  <a:lnTo>
                    <a:pt x="301" y="382"/>
                  </a:lnTo>
                  <a:lnTo>
                    <a:pt x="283" y="361"/>
                  </a:lnTo>
                  <a:lnTo>
                    <a:pt x="277" y="332"/>
                  </a:lnTo>
                  <a:lnTo>
                    <a:pt x="297" y="292"/>
                  </a:lnTo>
                  <a:lnTo>
                    <a:pt x="254" y="305"/>
                  </a:lnTo>
                  <a:lnTo>
                    <a:pt x="231" y="332"/>
                  </a:lnTo>
                  <a:lnTo>
                    <a:pt x="225" y="361"/>
                  </a:lnTo>
                  <a:lnTo>
                    <a:pt x="228" y="384"/>
                  </a:lnTo>
                  <a:lnTo>
                    <a:pt x="241" y="424"/>
                  </a:lnTo>
                  <a:lnTo>
                    <a:pt x="244" y="455"/>
                  </a:lnTo>
                  <a:lnTo>
                    <a:pt x="221" y="488"/>
                  </a:lnTo>
                  <a:lnTo>
                    <a:pt x="193" y="490"/>
                  </a:lnTo>
                  <a:lnTo>
                    <a:pt x="185" y="480"/>
                  </a:lnTo>
                  <a:lnTo>
                    <a:pt x="187" y="460"/>
                  </a:lnTo>
                  <a:lnTo>
                    <a:pt x="185" y="435"/>
                  </a:lnTo>
                  <a:lnTo>
                    <a:pt x="173" y="422"/>
                  </a:lnTo>
                  <a:lnTo>
                    <a:pt x="160" y="392"/>
                  </a:lnTo>
                  <a:lnTo>
                    <a:pt x="145" y="441"/>
                  </a:lnTo>
                  <a:lnTo>
                    <a:pt x="145" y="470"/>
                  </a:lnTo>
                  <a:lnTo>
                    <a:pt x="168" y="499"/>
                  </a:lnTo>
                  <a:lnTo>
                    <a:pt x="180" y="519"/>
                  </a:lnTo>
                  <a:lnTo>
                    <a:pt x="173" y="532"/>
                  </a:lnTo>
                  <a:lnTo>
                    <a:pt x="153" y="532"/>
                  </a:lnTo>
                  <a:lnTo>
                    <a:pt x="133" y="509"/>
                  </a:lnTo>
                  <a:lnTo>
                    <a:pt x="113" y="561"/>
                  </a:lnTo>
                  <a:lnTo>
                    <a:pt x="127" y="595"/>
                  </a:lnTo>
                  <a:lnTo>
                    <a:pt x="173" y="621"/>
                  </a:lnTo>
                  <a:lnTo>
                    <a:pt x="160" y="621"/>
                  </a:lnTo>
                  <a:lnTo>
                    <a:pt x="138" y="621"/>
                  </a:lnTo>
                  <a:lnTo>
                    <a:pt x="86" y="605"/>
                  </a:lnTo>
                  <a:lnTo>
                    <a:pt x="38" y="571"/>
                  </a:lnTo>
                  <a:lnTo>
                    <a:pt x="11" y="514"/>
                  </a:lnTo>
                  <a:lnTo>
                    <a:pt x="10" y="502"/>
                  </a:lnTo>
                  <a:lnTo>
                    <a:pt x="0" y="464"/>
                  </a:lnTo>
                  <a:lnTo>
                    <a:pt x="0" y="438"/>
                  </a:lnTo>
                  <a:lnTo>
                    <a:pt x="0" y="412"/>
                  </a:lnTo>
                  <a:lnTo>
                    <a:pt x="8" y="382"/>
                  </a:lnTo>
                  <a:lnTo>
                    <a:pt x="17" y="405"/>
                  </a:lnTo>
                  <a:lnTo>
                    <a:pt x="23" y="431"/>
                  </a:lnTo>
                  <a:lnTo>
                    <a:pt x="38" y="445"/>
                  </a:lnTo>
                  <a:lnTo>
                    <a:pt x="36" y="427"/>
                  </a:lnTo>
                  <a:lnTo>
                    <a:pt x="38" y="401"/>
                  </a:lnTo>
                  <a:lnTo>
                    <a:pt x="64" y="367"/>
                  </a:lnTo>
                  <a:lnTo>
                    <a:pt x="76" y="347"/>
                  </a:lnTo>
                  <a:lnTo>
                    <a:pt x="78" y="322"/>
                  </a:lnTo>
                  <a:lnTo>
                    <a:pt x="64" y="281"/>
                  </a:lnTo>
                  <a:lnTo>
                    <a:pt x="56" y="243"/>
                  </a:lnTo>
                  <a:lnTo>
                    <a:pt x="63" y="208"/>
                  </a:lnTo>
                  <a:lnTo>
                    <a:pt x="97" y="158"/>
                  </a:lnTo>
                  <a:lnTo>
                    <a:pt x="96" y="188"/>
                  </a:lnTo>
                  <a:lnTo>
                    <a:pt x="101" y="224"/>
                  </a:lnTo>
                  <a:lnTo>
                    <a:pt x="123" y="255"/>
                  </a:lnTo>
                  <a:lnTo>
                    <a:pt x="168" y="281"/>
                  </a:lnTo>
                  <a:lnTo>
                    <a:pt x="164" y="258"/>
                  </a:lnTo>
                  <a:lnTo>
                    <a:pt x="194" y="188"/>
                  </a:lnTo>
                  <a:lnTo>
                    <a:pt x="210" y="155"/>
                  </a:lnTo>
                  <a:lnTo>
                    <a:pt x="210" y="125"/>
                  </a:lnTo>
                  <a:lnTo>
                    <a:pt x="191" y="91"/>
                  </a:lnTo>
                  <a:lnTo>
                    <a:pt x="175" y="61"/>
                  </a:lnTo>
                  <a:lnTo>
                    <a:pt x="177" y="33"/>
                  </a:lnTo>
                  <a:lnTo>
                    <a:pt x="195" y="3"/>
                  </a:lnTo>
                  <a:lnTo>
                    <a:pt x="194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11960" y="2233440"/>
              <a:ext cx="113760" cy="2095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33000" rIns="5733000" tIns="-2656800" bIns="-265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 flipV="1">
            <a:off x="5719680" y="1428480"/>
            <a:ext cx="887400" cy="83340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080" y="588600"/>
            <a:ext cx="86439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ebSphere Data Interchange for Multiplatforms v3.2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6958080" y="1738440"/>
            <a:ext cx="1565280" cy="1236600"/>
            <a:chOff x="6958080" y="1738440"/>
            <a:chExt cx="1565280" cy="1236600"/>
          </a:xfrm>
        </p:grpSpPr>
        <p:sp>
          <p:nvSpPr>
            <p:cNvPr id="216" name="Cloud"/>
            <p:cNvSpPr/>
            <p:nvPr/>
          </p:nvSpPr>
          <p:spPr>
            <a:xfrm>
              <a:off x="6958080" y="1738440"/>
              <a:ext cx="1565280" cy="123660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61320" y="1997280"/>
              <a:ext cx="15256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Intern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519200" y="1325520"/>
            <a:ext cx="1809720" cy="1661760"/>
            <a:chOff x="1519200" y="1325520"/>
            <a:chExt cx="1809720" cy="1661760"/>
          </a:xfrm>
        </p:grpSpPr>
        <p:sp>
          <p:nvSpPr>
            <p:cNvPr id="219" name="laptop"/>
            <p:cNvSpPr/>
            <p:nvPr/>
          </p:nvSpPr>
          <p:spPr>
            <a:xfrm>
              <a:off x="1519200" y="1325520"/>
              <a:ext cx="1809720" cy="13618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68760" y="1454040"/>
              <a:ext cx="1148400" cy="15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buildtime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119400" y="4538520"/>
            <a:ext cx="1674720" cy="525240"/>
            <a:chOff x="3119400" y="4538520"/>
            <a:chExt cx="1674720" cy="525240"/>
          </a:xfrm>
        </p:grpSpPr>
        <p:sp>
          <p:nvSpPr>
            <p:cNvPr id="222" name=""/>
            <p:cNvSpPr/>
            <p:nvPr/>
          </p:nvSpPr>
          <p:spPr>
            <a:xfrm>
              <a:off x="3119400" y="4787640"/>
              <a:ext cx="1674720" cy="2844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55720" y="454320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4"/>
                  </a:moveTo>
                  <a:lnTo>
                    <a:pt x="18" y="31"/>
                  </a:lnTo>
                  <a:lnTo>
                    <a:pt x="232" y="31"/>
                  </a:lnTo>
                  <a:lnTo>
                    <a:pt x="212" y="14"/>
                  </a:lnTo>
                  <a:lnTo>
                    <a:pt x="212" y="184"/>
                  </a:lnTo>
                  <a:lnTo>
                    <a:pt x="232" y="167"/>
                  </a:lnTo>
                  <a:lnTo>
                    <a:pt x="18" y="167"/>
                  </a:lnTo>
                  <a:lnTo>
                    <a:pt x="39" y="184"/>
                  </a:lnTo>
                  <a:lnTo>
                    <a:pt x="39" y="14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32040" y="468936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70240" y="4538520"/>
              <a:ext cx="196200" cy="158760"/>
            </a:xfrm>
            <a:custGeom>
              <a:avLst/>
              <a:gdLst/>
              <a:ahLst/>
              <a:rect l="l" t="t" r="r" b="b"/>
              <a:pathLst>
                <a:path w="247" h="199">
                  <a:moveTo>
                    <a:pt x="38" y="15"/>
                  </a:moveTo>
                  <a:lnTo>
                    <a:pt x="18" y="32"/>
                  </a:lnTo>
                  <a:lnTo>
                    <a:pt x="230" y="32"/>
                  </a:lnTo>
                  <a:lnTo>
                    <a:pt x="208" y="15"/>
                  </a:lnTo>
                  <a:lnTo>
                    <a:pt x="208" y="186"/>
                  </a:lnTo>
                  <a:lnTo>
                    <a:pt x="230" y="168"/>
                  </a:lnTo>
                  <a:lnTo>
                    <a:pt x="18" y="168"/>
                  </a:lnTo>
                  <a:lnTo>
                    <a:pt x="38" y="186"/>
                  </a:lnTo>
                  <a:lnTo>
                    <a:pt x="38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47" y="199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48000" y="4686120"/>
              <a:ext cx="32760" cy="11592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52600" y="490176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5"/>
                  </a:moveTo>
                  <a:lnTo>
                    <a:pt x="19" y="31"/>
                  </a:lnTo>
                  <a:lnTo>
                    <a:pt x="234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4" y="168"/>
                  </a:lnTo>
                  <a:lnTo>
                    <a:pt x="19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330360" y="4802040"/>
              <a:ext cx="327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66760" y="4901760"/>
              <a:ext cx="199800" cy="158760"/>
            </a:xfrm>
            <a:custGeom>
              <a:avLst/>
              <a:gdLst/>
              <a:ahLst/>
              <a:rect l="l" t="t" r="r" b="b"/>
              <a:pathLst>
                <a:path w="250" h="199">
                  <a:moveTo>
                    <a:pt x="39" y="15"/>
                  </a:moveTo>
                  <a:lnTo>
                    <a:pt x="17" y="31"/>
                  </a:lnTo>
                  <a:lnTo>
                    <a:pt x="232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2" y="168"/>
                  </a:lnTo>
                  <a:lnTo>
                    <a:pt x="17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0" y="199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4520" y="480204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73360" y="4906800"/>
              <a:ext cx="196560" cy="156960"/>
            </a:xfrm>
            <a:custGeom>
              <a:avLst/>
              <a:gdLst/>
              <a:ahLst/>
              <a:rect l="l" t="t" r="r" b="b"/>
              <a:pathLst>
                <a:path w="247" h="198">
                  <a:moveTo>
                    <a:pt x="38" y="13"/>
                  </a:moveTo>
                  <a:lnTo>
                    <a:pt x="18" y="31"/>
                  </a:lnTo>
                  <a:lnTo>
                    <a:pt x="229" y="31"/>
                  </a:lnTo>
                  <a:lnTo>
                    <a:pt x="209" y="13"/>
                  </a:lnTo>
                  <a:lnTo>
                    <a:pt x="209" y="184"/>
                  </a:lnTo>
                  <a:lnTo>
                    <a:pt x="229" y="167"/>
                  </a:lnTo>
                  <a:lnTo>
                    <a:pt x="18" y="167"/>
                  </a:lnTo>
                  <a:lnTo>
                    <a:pt x="38" y="184"/>
                  </a:lnTo>
                  <a:lnTo>
                    <a:pt x="38" y="13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247" y="198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120" y="4805280"/>
              <a:ext cx="3312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937120" y="3435480"/>
            <a:ext cx="1154880" cy="2361600"/>
            <a:chOff x="5937120" y="3435480"/>
            <a:chExt cx="1154880" cy="2361600"/>
          </a:xfrm>
        </p:grpSpPr>
        <p:sp>
          <p:nvSpPr>
            <p:cNvPr id="234" name=""/>
            <p:cNvSpPr/>
            <p:nvPr/>
          </p:nvSpPr>
          <p:spPr>
            <a:xfrm>
              <a:off x="6080040" y="3435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db6b3"/>
                  </a:solidFill>
                  <a:latin typeface="Times New Roman"/>
                </a:rPr>
                <a:t>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990760" y="49240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9761600">
              <a:off x="6735600" y="52380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1568200">
              <a:off x="6471720" y="495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5937120" y="3816000"/>
              <a:ext cx="1147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217920" y="4730400"/>
              <a:ext cx="533520" cy="68544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flipH="1">
            <a:off x="2128680" y="4767120"/>
            <a:ext cx="990720" cy="30492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4795560" y="4766760"/>
            <a:ext cx="1143000" cy="22860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21558600">
            <a:off x="3786120" y="3166560"/>
            <a:ext cx="1800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Base/A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for Window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4720" y="5072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33600" y="2938320"/>
            <a:ext cx="1219320" cy="144792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5405400" y="3090600"/>
            <a:ext cx="658800" cy="84276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7002360" y="2761920"/>
            <a:ext cx="674640" cy="112860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921400">
            <a:off x="2692800" y="3361320"/>
            <a:ext cx="6210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5200" y="5692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05520" y="5716440"/>
            <a:ext cx="10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10200" y="564192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Arial"/>
              </a:rPr>
              <a:t>AIX or W2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022400" y="3411360"/>
            <a:ext cx="1155240" cy="2362320"/>
            <a:chOff x="1022400" y="3411360"/>
            <a:chExt cx="1155240" cy="2362320"/>
          </a:xfrm>
        </p:grpSpPr>
        <p:grpSp>
          <p:nvGrpSpPr>
            <p:cNvPr id="252" name=""/>
            <p:cNvGrpSpPr/>
            <p:nvPr/>
          </p:nvGrpSpPr>
          <p:grpSpPr>
            <a:xfrm>
              <a:off x="1022400" y="3411360"/>
              <a:ext cx="1155240" cy="2362320"/>
              <a:chOff x="1022400" y="3411360"/>
              <a:chExt cx="1155240" cy="2362320"/>
            </a:xfrm>
          </p:grpSpPr>
          <p:sp>
            <p:nvSpPr>
              <p:cNvPr id="253" name=""/>
              <p:cNvSpPr/>
              <p:nvPr/>
            </p:nvSpPr>
            <p:spPr>
              <a:xfrm rot="19761600">
                <a:off x="1821240" y="521424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568200">
                <a:off x="1557000" y="4935240"/>
                <a:ext cx="21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5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2400" y="3792240"/>
                <a:ext cx="11476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"/>
              <p:cNvSpPr/>
              <p:nvPr/>
            </p:nvSpPr>
            <p:spPr>
              <a:xfrm>
                <a:off x="1316160" y="4706640"/>
                <a:ext cx="533520" cy="685800"/>
              </a:xfrm>
              <a:prstGeom prst="flowChartMagneticDisk">
                <a:avLst/>
              </a:prstGeom>
              <a:solidFill>
                <a:srgbClr val="7889fb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203120" y="341136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db6b3"/>
                    </a:solidFill>
                    <a:latin typeface="Times New Roman"/>
                  </a:rPr>
                  <a:t>Tes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1074960" y="480996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5989680" y="479736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Cloud"/>
          <p:cNvSpPr/>
          <p:nvPr/>
        </p:nvSpPr>
        <p:spPr>
          <a:xfrm>
            <a:off x="5072040" y="1171440"/>
            <a:ext cx="2124000" cy="117504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59520" y="1335240"/>
            <a:ext cx="197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Exchange Servi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ntern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Cloud"/>
          <p:cNvSpPr/>
          <p:nvPr/>
        </p:nvSpPr>
        <p:spPr>
          <a:xfrm>
            <a:off x="4186080" y="1947960"/>
            <a:ext cx="1752840" cy="1174680"/>
          </a:xfrm>
          <a:prstGeom prst="pi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17360" y="2065320"/>
            <a:ext cx="98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7367760" y="2871720"/>
            <a:ext cx="201600" cy="420480"/>
            <a:chOff x="7367760" y="2871720"/>
            <a:chExt cx="201600" cy="420480"/>
          </a:xfrm>
        </p:grpSpPr>
        <p:sp>
          <p:nvSpPr>
            <p:cNvPr id="265" name=""/>
            <p:cNvSpPr/>
            <p:nvPr/>
          </p:nvSpPr>
          <p:spPr>
            <a:xfrm>
              <a:off x="7367760" y="2871720"/>
              <a:ext cx="201600" cy="270000"/>
            </a:xfrm>
            <a:custGeom>
              <a:avLst/>
              <a:gdLst/>
              <a:ahLst/>
              <a:rect l="l" t="t" r="r" b="b"/>
              <a:pathLst>
                <a:path w="518" h="621">
                  <a:moveTo>
                    <a:pt x="194" y="0"/>
                  </a:moveTo>
                  <a:lnTo>
                    <a:pt x="204" y="23"/>
                  </a:lnTo>
                  <a:lnTo>
                    <a:pt x="278" y="76"/>
                  </a:lnTo>
                  <a:lnTo>
                    <a:pt x="321" y="114"/>
                  </a:lnTo>
                  <a:lnTo>
                    <a:pt x="334" y="154"/>
                  </a:lnTo>
                  <a:lnTo>
                    <a:pt x="334" y="184"/>
                  </a:lnTo>
                  <a:lnTo>
                    <a:pt x="354" y="165"/>
                  </a:lnTo>
                  <a:lnTo>
                    <a:pt x="361" y="143"/>
                  </a:lnTo>
                  <a:lnTo>
                    <a:pt x="358" y="115"/>
                  </a:lnTo>
                  <a:lnTo>
                    <a:pt x="411" y="154"/>
                  </a:lnTo>
                  <a:lnTo>
                    <a:pt x="415" y="175"/>
                  </a:lnTo>
                  <a:lnTo>
                    <a:pt x="411" y="197"/>
                  </a:lnTo>
                  <a:lnTo>
                    <a:pt x="384" y="244"/>
                  </a:lnTo>
                  <a:lnTo>
                    <a:pt x="380" y="265"/>
                  </a:lnTo>
                  <a:lnTo>
                    <a:pt x="381" y="283"/>
                  </a:lnTo>
                  <a:lnTo>
                    <a:pt x="402" y="295"/>
                  </a:lnTo>
                  <a:lnTo>
                    <a:pt x="425" y="290"/>
                  </a:lnTo>
                  <a:lnTo>
                    <a:pt x="434" y="270"/>
                  </a:lnTo>
                  <a:lnTo>
                    <a:pt x="440" y="292"/>
                  </a:lnTo>
                  <a:lnTo>
                    <a:pt x="440" y="310"/>
                  </a:lnTo>
                  <a:lnTo>
                    <a:pt x="427" y="342"/>
                  </a:lnTo>
                  <a:lnTo>
                    <a:pt x="432" y="368"/>
                  </a:lnTo>
                  <a:lnTo>
                    <a:pt x="457" y="378"/>
                  </a:lnTo>
                  <a:lnTo>
                    <a:pt x="485" y="371"/>
                  </a:lnTo>
                  <a:lnTo>
                    <a:pt x="504" y="344"/>
                  </a:lnTo>
                  <a:lnTo>
                    <a:pt x="515" y="368"/>
                  </a:lnTo>
                  <a:lnTo>
                    <a:pt x="518" y="405"/>
                  </a:lnTo>
                  <a:lnTo>
                    <a:pt x="490" y="467"/>
                  </a:lnTo>
                  <a:lnTo>
                    <a:pt x="475" y="545"/>
                  </a:lnTo>
                  <a:lnTo>
                    <a:pt x="448" y="582"/>
                  </a:lnTo>
                  <a:lnTo>
                    <a:pt x="401" y="607"/>
                  </a:lnTo>
                  <a:lnTo>
                    <a:pt x="317" y="621"/>
                  </a:lnTo>
                  <a:lnTo>
                    <a:pt x="355" y="591"/>
                  </a:lnTo>
                  <a:lnTo>
                    <a:pt x="378" y="552"/>
                  </a:lnTo>
                  <a:lnTo>
                    <a:pt x="385" y="528"/>
                  </a:lnTo>
                  <a:lnTo>
                    <a:pt x="385" y="498"/>
                  </a:lnTo>
                  <a:lnTo>
                    <a:pt x="371" y="481"/>
                  </a:lnTo>
                  <a:lnTo>
                    <a:pt x="357" y="478"/>
                  </a:lnTo>
                  <a:lnTo>
                    <a:pt x="331" y="482"/>
                  </a:lnTo>
                  <a:lnTo>
                    <a:pt x="330" y="485"/>
                  </a:lnTo>
                  <a:lnTo>
                    <a:pt x="313" y="487"/>
                  </a:lnTo>
                  <a:lnTo>
                    <a:pt x="287" y="481"/>
                  </a:lnTo>
                  <a:lnTo>
                    <a:pt x="317" y="464"/>
                  </a:lnTo>
                  <a:lnTo>
                    <a:pt x="325" y="435"/>
                  </a:lnTo>
                  <a:lnTo>
                    <a:pt x="301" y="382"/>
                  </a:lnTo>
                  <a:lnTo>
                    <a:pt x="283" y="361"/>
                  </a:lnTo>
                  <a:lnTo>
                    <a:pt x="277" y="332"/>
                  </a:lnTo>
                  <a:lnTo>
                    <a:pt x="297" y="292"/>
                  </a:lnTo>
                  <a:lnTo>
                    <a:pt x="254" y="305"/>
                  </a:lnTo>
                  <a:lnTo>
                    <a:pt x="231" y="332"/>
                  </a:lnTo>
                  <a:lnTo>
                    <a:pt x="225" y="361"/>
                  </a:lnTo>
                  <a:lnTo>
                    <a:pt x="228" y="384"/>
                  </a:lnTo>
                  <a:lnTo>
                    <a:pt x="241" y="424"/>
                  </a:lnTo>
                  <a:lnTo>
                    <a:pt x="244" y="455"/>
                  </a:lnTo>
                  <a:lnTo>
                    <a:pt x="221" y="488"/>
                  </a:lnTo>
                  <a:lnTo>
                    <a:pt x="193" y="490"/>
                  </a:lnTo>
                  <a:lnTo>
                    <a:pt x="185" y="480"/>
                  </a:lnTo>
                  <a:lnTo>
                    <a:pt x="187" y="460"/>
                  </a:lnTo>
                  <a:lnTo>
                    <a:pt x="185" y="435"/>
                  </a:lnTo>
                  <a:lnTo>
                    <a:pt x="173" y="422"/>
                  </a:lnTo>
                  <a:lnTo>
                    <a:pt x="160" y="392"/>
                  </a:lnTo>
                  <a:lnTo>
                    <a:pt x="145" y="441"/>
                  </a:lnTo>
                  <a:lnTo>
                    <a:pt x="145" y="470"/>
                  </a:lnTo>
                  <a:lnTo>
                    <a:pt x="168" y="499"/>
                  </a:lnTo>
                  <a:lnTo>
                    <a:pt x="180" y="519"/>
                  </a:lnTo>
                  <a:lnTo>
                    <a:pt x="173" y="532"/>
                  </a:lnTo>
                  <a:lnTo>
                    <a:pt x="153" y="532"/>
                  </a:lnTo>
                  <a:lnTo>
                    <a:pt x="133" y="509"/>
                  </a:lnTo>
                  <a:lnTo>
                    <a:pt x="113" y="561"/>
                  </a:lnTo>
                  <a:lnTo>
                    <a:pt x="127" y="595"/>
                  </a:lnTo>
                  <a:lnTo>
                    <a:pt x="173" y="621"/>
                  </a:lnTo>
                  <a:lnTo>
                    <a:pt x="160" y="621"/>
                  </a:lnTo>
                  <a:lnTo>
                    <a:pt x="138" y="621"/>
                  </a:lnTo>
                  <a:lnTo>
                    <a:pt x="86" y="605"/>
                  </a:lnTo>
                  <a:lnTo>
                    <a:pt x="38" y="571"/>
                  </a:lnTo>
                  <a:lnTo>
                    <a:pt x="11" y="514"/>
                  </a:lnTo>
                  <a:lnTo>
                    <a:pt x="10" y="502"/>
                  </a:lnTo>
                  <a:lnTo>
                    <a:pt x="0" y="464"/>
                  </a:lnTo>
                  <a:lnTo>
                    <a:pt x="0" y="438"/>
                  </a:lnTo>
                  <a:lnTo>
                    <a:pt x="0" y="412"/>
                  </a:lnTo>
                  <a:lnTo>
                    <a:pt x="8" y="382"/>
                  </a:lnTo>
                  <a:lnTo>
                    <a:pt x="17" y="405"/>
                  </a:lnTo>
                  <a:lnTo>
                    <a:pt x="23" y="431"/>
                  </a:lnTo>
                  <a:lnTo>
                    <a:pt x="38" y="445"/>
                  </a:lnTo>
                  <a:lnTo>
                    <a:pt x="36" y="427"/>
                  </a:lnTo>
                  <a:lnTo>
                    <a:pt x="38" y="401"/>
                  </a:lnTo>
                  <a:lnTo>
                    <a:pt x="64" y="367"/>
                  </a:lnTo>
                  <a:lnTo>
                    <a:pt x="76" y="347"/>
                  </a:lnTo>
                  <a:lnTo>
                    <a:pt x="78" y="322"/>
                  </a:lnTo>
                  <a:lnTo>
                    <a:pt x="64" y="281"/>
                  </a:lnTo>
                  <a:lnTo>
                    <a:pt x="56" y="243"/>
                  </a:lnTo>
                  <a:lnTo>
                    <a:pt x="63" y="208"/>
                  </a:lnTo>
                  <a:lnTo>
                    <a:pt x="97" y="158"/>
                  </a:lnTo>
                  <a:lnTo>
                    <a:pt x="96" y="188"/>
                  </a:lnTo>
                  <a:lnTo>
                    <a:pt x="101" y="224"/>
                  </a:lnTo>
                  <a:lnTo>
                    <a:pt x="123" y="255"/>
                  </a:lnTo>
                  <a:lnTo>
                    <a:pt x="168" y="281"/>
                  </a:lnTo>
                  <a:lnTo>
                    <a:pt x="164" y="258"/>
                  </a:lnTo>
                  <a:lnTo>
                    <a:pt x="194" y="188"/>
                  </a:lnTo>
                  <a:lnTo>
                    <a:pt x="210" y="155"/>
                  </a:lnTo>
                  <a:lnTo>
                    <a:pt x="210" y="125"/>
                  </a:lnTo>
                  <a:lnTo>
                    <a:pt x="191" y="91"/>
                  </a:lnTo>
                  <a:lnTo>
                    <a:pt x="175" y="61"/>
                  </a:lnTo>
                  <a:lnTo>
                    <a:pt x="177" y="33"/>
                  </a:lnTo>
                  <a:lnTo>
                    <a:pt x="195" y="3"/>
                  </a:lnTo>
                  <a:lnTo>
                    <a:pt x="194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415640" y="3111120"/>
              <a:ext cx="106560" cy="181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33000" rIns="5733000" tIns="-2685240" bIns="-2685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 flipV="1">
            <a:off x="6087960" y="2336400"/>
            <a:ext cx="158760" cy="150804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18400" y="3309840"/>
            <a:ext cx="728640" cy="4622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99680" y="33685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BI-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5583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Case Study:  Our DI 3.1 – WDI 3.2 Migration “flight plan”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2 – Assess your Business and eBusiness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3 – Define your migration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ing your Migration Flight Pla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816200" y="1022400"/>
          <a:ext cx="5205240" cy="50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6200" y="1022400"/>
                    <a:ext cx="5205240" cy="50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Completing your Migration Plan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2 – Assess your Business and eBusiness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3 – Define your migration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4 - Determine your migration prio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5 – Develop an incremental migra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6 – Execute your Migration pla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7 – Begin Leveraging WDI in a eBusiness Centric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07880" y="170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Questions</a:t>
            </a:r>
            <a:br>
              <a:rPr sz="7200"/>
            </a:b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&amp;</a:t>
            </a:r>
            <a:br>
              <a:rPr sz="7200"/>
            </a:b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Answers</a:t>
            </a:r>
            <a:endParaRPr b="0" lang="en-US" sz="7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WDI 3.2 Migration Flight Plan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Agenda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mber…. The Goals are the same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of our Migration “pre-flight”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gration readiness Overview (our “air worthiness” che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gration Consid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Study:  Our DI 3.1 – WDI 3.2 Migration “flight pla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What’s keeping CIO’s up at night in 2003?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3:  CIO’s  top 14 spending prior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ntegrating systems and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owering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Strategic planning/aligning IT and business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mplementing data security and privacy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Automating/optimizing the supply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nabling/enhancing e-comme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xternal business-to-business customer service/relationship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management/leveraging intellectual as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management impr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xternal business-to-consumer customer service/relationship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training/education/satisf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ing new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ff development/re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51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IT global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Source: CIO Magazine Apr 1, 2003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Business Goals…..remain the same…….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oals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Costs / Increase Pro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hieving the Goal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 Exchan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/Suppl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corp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functional business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complexity = lower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reliability an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Seizing the BIG opportunity…. </a:t>
            </a:r>
            <a:br>
              <a:rPr sz="1600"/>
            </a:b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hat if you could…..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05560" cy="42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in addressing ALL of the TOP 7 priorities of your C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ght of the TOP 10 CIO’s prioriti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come the “epi-center” of the “second phase” of ebusiness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prise integ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rnally – Customers and sup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ibute to your corporation’s ROI within 12 months!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THE key component of the #1 corporate business challeng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Review: Migration Pre-Flight Plan Checklist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00000" y="1351080"/>
            <a:ext cx="750096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 – Taking Inventory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/ Business Applications Architecture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M DataInterchange 3.1 – Administration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s / Network 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ion/Trans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Systems / Application Trans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3840" y="666360"/>
            <a:ext cx="8929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readiness Overview…(looking for “air worthiness exceptions)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63720" y="1223640"/>
            <a:ext cx="734832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Business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ailable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dware/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vironmen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Systems / Platform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Application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Base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63720" y="10839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ironmental / Business Applications Architecture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or and Applications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35120" y="1677960"/>
          <a:ext cx="7067520" cy="45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5120" y="1677960"/>
                    <a:ext cx="7067520" cy="45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Environmental / Business Applications Architecture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498760" y="957240"/>
          <a:ext cx="3832200" cy="51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8760" y="957240"/>
                    <a:ext cx="3832200" cy="51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7:57Z</dcterms:modified>
  <cp:revision>871</cp:revision>
  <dc:subject/>
  <dc:title>IBM Software Group</dc:title>
</cp:coreProperties>
</file>